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810-5F35-45F3-8AC0-E4BEB874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BEB-8BA3-4FD3-AE51-5CD66983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AF7-47FF-4128-A830-918AB7DC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68B-9031-4CE6-8828-2A882AE1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D034-F53D-4D14-AD14-4E424C4C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86E8-742A-4F83-8304-46E0925F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0DA1-B2E1-4E69-AB62-D7C1A8BC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FDF2-24C4-4622-8C92-387DC060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1751-DED9-4EB5-BD9B-83072EBE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3065-EA08-44DC-B90B-BB11E8CF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2E28-FFB8-47C8-BC52-28F03743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205-5CA9-4198-ADD8-7ED02D1E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A367-53D7-41E8-9DA1-DFDC98B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589D-D824-4062-8536-B357E067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92D2-A975-4298-A2F7-7BBD5D3F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26F3-D0B8-409E-B009-2783F7C0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33AF-3896-44C2-85F7-AC021CA1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EE7-1486-446E-A874-3E71384A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CAB-BE4B-4167-906C-83DB4228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1C1-908A-4763-96E2-61C447E8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6AE-C6F7-4C42-928A-05EB7621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921-CCFE-4CBF-BCC5-DB67E13A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633-F2C2-4BF6-B07E-00F9314D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40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21C-CB59-44E4-89FD-9839CA7E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9EBF-A04A-4F3C-AB1B-8AAC90B712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0D66-619D-47A1-8FE1-B89E8E3177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ES: Reasoning Engines Evaluation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sion 3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976840" y="5029200"/>
            <a:ext cx="36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utomated Reasoning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iversity of California, Ir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ask Execution and 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9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sk Exec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ES maintains a detailed log of the execu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threaded execution allows immediate interrup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sk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readsheet-like visualization of results (each column represents an output parameter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ple and intuitive comparison between algorithm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88120" y="1752480"/>
            <a:ext cx="243360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154480" y="3962520"/>
            <a:ext cx="2900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-in architecture allows multiple reasoning engines to share the same interface and da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int algorithmic evaluation and comparison now possible with REES Suite 3.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blic release is available at: </a:t>
            </a:r>
            <a:r>
              <a:rPr b="0" i="1" lang="en-US" sz="2600" spc="-1" strike="noStrike">
                <a:solidFill>
                  <a:srgbClr val="336699"/>
                </a:solidFill>
                <a:latin typeface="Verdana"/>
              </a:rPr>
              <a:t>http://www.ics.uci.edu/~radum/rees.ht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redi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am Memb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u Marinesc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alev Kask   (P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ina Dechter (P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yle Boll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 b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alev Kas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u Marinesc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n Fr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nowledge Representation Framework (Graphical Model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raint Networks (CS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raint Optimization (C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lief Networks (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er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SP, Max-C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lief Updating (B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Probable Scenario (MPE, MA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19040" y="4800600"/>
            <a:ext cx="8305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Within this framework 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soning engine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represent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collection of algorithms that implements a specific query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environment to support research and development in the area of automated reaso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-in architectur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pid integration of different libraries of reasoning algorithms (plug-in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workbench that promotes joint evaluation and comparison of alternative technolog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rchitecture - Overview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581280"/>
            <a:ext cx="685800" cy="2286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1600" y="2209680"/>
            <a:ext cx="1600200" cy="1447920"/>
            <a:chOff x="1371600" y="2209680"/>
            <a:chExt cx="1600200" cy="1447920"/>
          </a:xfrm>
        </p:grpSpPr>
        <p:sp>
          <p:nvSpPr>
            <p:cNvPr id="98" name=""/>
            <p:cNvSpPr/>
            <p:nvPr/>
          </p:nvSpPr>
          <p:spPr>
            <a:xfrm>
              <a:off x="1371600" y="2209680"/>
              <a:ext cx="1600200" cy="1447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4600" y="22096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24240" y="2743200"/>
              <a:ext cx="894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just"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ES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2127600" y="2748960"/>
              <a:ext cx="1231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6080" bIns="46080" anchor="t">
              <a:spAutoFit/>
            </a:bodyPr>
            <a:p>
              <a:pPr algn="just"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110200" y="4343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905120"/>
            <a:ext cx="304920" cy="3581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19320" y="4191120"/>
            <a:ext cx="1904760" cy="1355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16200000">
            <a:off x="-128520" y="3404520"/>
            <a:ext cx="1752840" cy="733680"/>
          </a:xfrm>
          <a:custGeom>
            <a:avLst/>
            <a:gdLst>
              <a:gd name="textAreaLeft" fmla="*/ 312120 w 1752840"/>
              <a:gd name="textAreaRight" fmla="*/ 1192680 w 17528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99" hR="21600" stAng="10800000" swAng="5400000"/>
                <a:lnTo>
                  <a:pt x="10848" y="0"/>
                </a:lnTo>
                <a:arcTo wR="7699" hR="21600" stAng="-5400000" swAng="2713954"/>
                <a:lnTo>
                  <a:pt x="21160" y="14400"/>
                </a:lnTo>
                <a:lnTo>
                  <a:pt x="16973" y="21600"/>
                </a:lnTo>
                <a:lnTo>
                  <a:pt x="11905" y="14400"/>
                </a:lnTo>
                <a:lnTo>
                  <a:pt x="14958" y="14400"/>
                </a:lnTo>
                <a:arcTo wR="7699" hR="21600" stAng="-2686046" swAng="-2458425"/>
                <a:lnTo>
                  <a:pt x="9274" y="457"/>
                </a:lnTo>
                <a:arcTo wR="7699" hR="21600" stAng="-5655528" swAng="-5144472"/>
                <a:close/>
              </a:path>
              <a:path fill="darkenLess" w="21600" h="21600">
                <a:moveTo>
                  <a:pt x="0" y="21600"/>
                </a:moveTo>
                <a:arcTo wR="7699" hR="21600" stAng="10800000" swAng="5400000"/>
                <a:lnTo>
                  <a:pt x="7699" y="0"/>
                </a:lnTo>
                <a:arcTo wR="7699" hR="21600" stAng="-5400000" swAng="255528"/>
                <a:lnTo>
                  <a:pt x="9274" y="457"/>
                </a:lnTo>
                <a:arcTo wR="7699" hR="21600" stAng="-5655528" swAng="-5144472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71000" y="1964520"/>
            <a:ext cx="1221840" cy="551520"/>
          </a:xfrm>
          <a:prstGeom prst="flowChartMultidocumen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ugi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71000" y="2726640"/>
            <a:ext cx="1221840" cy="551520"/>
          </a:xfrm>
          <a:prstGeom prst="flowChartMultidocumen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ugi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71000" y="3564720"/>
            <a:ext cx="1221840" cy="551520"/>
          </a:xfrm>
          <a:prstGeom prst="flowChartMultidocumen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ugi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71000" y="4936320"/>
            <a:ext cx="1221840" cy="551520"/>
          </a:xfrm>
          <a:prstGeom prst="flowChartMultidocumen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ugi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29718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ugins = C/C++ implementations of reasoning algorit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6" idx="3"/>
            <a:endCxn id="110" idx="1"/>
          </p:cNvCxnSpPr>
          <p:nvPr/>
        </p:nvCxnSpPr>
        <p:spPr>
          <a:xfrm>
            <a:off x="5916240" y="2239920"/>
            <a:ext cx="561240" cy="114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7" idx="3"/>
            <a:endCxn id="110" idx="1"/>
          </p:cNvCxnSpPr>
          <p:nvPr/>
        </p:nvCxnSpPr>
        <p:spPr>
          <a:xfrm>
            <a:off x="5916240" y="3001680"/>
            <a:ext cx="561240" cy="3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8" idx="3"/>
            <a:endCxn id="110" idx="1"/>
          </p:cNvCxnSpPr>
          <p:nvPr/>
        </p:nvCxnSpPr>
        <p:spPr>
          <a:xfrm flipV="1">
            <a:off x="5916240" y="3384000"/>
            <a:ext cx="56124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0" idx="1"/>
          </p:cNvCxnSpPr>
          <p:nvPr/>
        </p:nvCxnSpPr>
        <p:spPr>
          <a:xfrm flipV="1">
            <a:off x="5916240" y="3384000"/>
            <a:ext cx="561240" cy="182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15" name=""/>
          <p:cNvGraphicFramePr/>
          <p:nvPr/>
        </p:nvGraphicFramePr>
        <p:xfrm>
          <a:off x="6400800" y="1600200"/>
          <a:ext cx="260028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600200"/>
                    <a:ext cx="2600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71480" y="5746680"/>
            <a:ext cx="34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crosoft Windows implement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2590920"/>
            <a:ext cx="152640" cy="380880"/>
          </a:xfrm>
          <a:prstGeom prst="upDownArrow">
            <a:avLst>
              <a:gd name="adj1" fmla="val 32028"/>
              <a:gd name="adj2" fmla="val 8317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ES Suite 3.0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143000"/>
          <a:ext cx="7772400" cy="555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143000"/>
                    <a:ext cx="777240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ES 3.0 System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r friendly interf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ES Assistants (wizard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 setu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rametric (configure internal generator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lete (use the network edit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sk set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hoose/configure processing algorith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ES Network Edi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yesian net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aint net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le Plug-in Architec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plugins sharing the same interface and 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ES Network Edi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ief Net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ph structure toolbo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e/CPT properties ed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traint Net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ph structure toolbo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e/Constraint properties ed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43280" y="2286000"/>
          <a:ext cx="4272120" cy="304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286000"/>
                    <a:ext cx="42721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ES Assistants (Wizard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233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del Setup Wizar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s the configuration of a random problem gen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phical struc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unctional struc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ask Setup Wizar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s the configuration of an experime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 of algorith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/Output para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40160" y="1752480"/>
            <a:ext cx="2730600" cy="2057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40160" y="3962520"/>
            <a:ext cx="2730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0:35:36Z</dcterms:created>
  <dc:creator>radum</dc:creator>
  <dc:description/>
  <dc:language>en-US</dc:language>
  <cp:lastModifiedBy>Rina Dechter</cp:lastModifiedBy>
  <dcterms:modified xsi:type="dcterms:W3CDTF">2003-09-24T20:05:19Z</dcterms:modified>
  <cp:revision>79</cp:revision>
  <dc:subject/>
  <dc:title>REES: Reasoning Engine Evaluation Shell</dc:title>
</cp:coreProperties>
</file>